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HI_FIGHT%2050-50.WAV" ContentType="audio/x-wav"/>
  <Override PartName="/ppt/media/millionaire.wav" ContentType="audio/x-wav"/>
  <Override PartName="/ppt/media/image4.gif" ContentType="image/gif"/>
  <Override PartName="/ppt/media/ANGELS_F.WAV" ContentType="audio/x-wav"/>
  <Override PartName="/ppt/media/image8.gif" ContentType="image/gif"/>
  <Override PartName="/ppt/media/NEPR%20%D0%BF%D1%80%D0%BE%D0%B8%D0%B3%D1%80.WAV" ContentType="audio/x-wav"/>
  <Override PartName="/ppt/media/image5.gif" ContentType="image/gif"/>
  <Override PartName="/ppt/media/image6.gif" ContentType="image/gif"/>
  <Override PartName="/ppt/media/image7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5D0-F7F9-4FAB-ADCC-DBC62231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148-7EC1-42F9-A262-5D403434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2EC-56B1-40EE-8414-70A171F6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B2E-64DA-4C5D-A18F-5CFE8CB0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B358-84B4-4D9D-BF5B-173B1E89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CFB5-368A-42D9-BBF5-95317B25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B824-5D77-43D9-9150-A628F980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9ED0-BB64-486F-B9EF-D136667F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716B-1551-4C12-9040-EAEE0F8F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C290-FD05-40FE-861C-AC058373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7295-655F-4C77-84D1-5E12FDD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256-9E96-4E67-9CF8-4E2B8051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9B41-A4F1-41B4-86B8-9F3DD5E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0F6E-20C6-4569-A1C9-02488C2D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86D2-2112-4498-8BB2-B29F031B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36F3-CA36-43D8-8B1C-0F89609B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7BA2-8ABF-42A9-AA08-1D4B631F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40D-43DA-44F6-AE82-8D787FE9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44A-7EEB-442A-8F59-88536B55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5EB-EDB9-499D-8C8C-8FDE3A55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37F-EA26-43D8-907B-8CCBCB4A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D8F-7D84-47F0-A826-B89A25A0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4A5-7E73-4340-A47D-B9C0B882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628-69A0-4127-A764-A6735A4E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2148-7087-49B3-B4F7-449BD748CA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0321-C58F-44A8-8C53-926DC90FCE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ANGELS_F.WAV"/><Relationship Id="rId3" Type="http://schemas.openxmlformats.org/officeDocument/2006/relationships/audio" Target="../media/HI_FIGHT%2050-50.WAV"/><Relationship Id="rId4" Type="http://schemas.openxmlformats.org/officeDocument/2006/relationships/audio" Target="../media/HI_FIGHT%2050-50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HI_FIGHT%2050-50.WAV"/><Relationship Id="rId2" Type="http://schemas.openxmlformats.org/officeDocument/2006/relationships/audio" Target="../media/HI_FIGHT%2050-50.WAV"/><Relationship Id="rId3" Type="http://schemas.openxmlformats.org/officeDocument/2006/relationships/audio" Target="../media/ANGELS_F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HI_FIGHT%2050-50.WAV"/><Relationship Id="rId2" Type="http://schemas.openxmlformats.org/officeDocument/2006/relationships/audio" Target="../media/HI_FIGHT%2050-50.WAV"/><Relationship Id="rId3" Type="http://schemas.openxmlformats.org/officeDocument/2006/relationships/audio" Target="../media/ANGELS_F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6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981080" y="3809880"/>
            <a:ext cx="48006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18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981080" y="5638680"/>
            <a:ext cx="48006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1905120" y="4724280"/>
            <a:ext cx="495288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20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380880" y="685800"/>
            <a:ext cx="8305920" cy="1994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5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“Всё украшало кабинет философа в … лет”, Возраст Онегина в 1-й гла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0"/>
          <p:cNvSpPr/>
          <p:nvPr/>
        </p:nvSpPr>
        <p:spPr>
          <a:xfrm>
            <a:off x="1981080" y="2895480"/>
            <a:ext cx="45720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4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11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1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22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23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3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35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4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5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86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6336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6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ерсонаж “Капитанской дочки”, подаривший Пугачёву заячий тулуп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685800" y="5181480"/>
            <a:ext cx="33526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Гринё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5181480" y="5181480"/>
            <a:ext cx="342900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Швабр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685800" y="4114800"/>
            <a:ext cx="33526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Савельич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5105520" y="4191120"/>
            <a:ext cx="33526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Мироно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20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5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2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7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03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3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14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15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26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27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39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40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36576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Baskerville Old Face"/>
              </a:rPr>
              <a:t>7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то из героинь романа “Евгений Онегин”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сегда скромна, всегда послушн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сегда, как утро, весел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жизнь поэта простодушн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поцелуй любви мила;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Глаза как небо голубые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Улыбка, локоны льняные…</a:t>
            </a:r>
            <a:br>
              <a:rPr sz="2800"/>
            </a:br>
            <a:endParaRPr b="0" lang="en-US" sz="2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380880" y="5257800"/>
            <a:ext cx="373392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Няня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Татья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419720" y="5257800"/>
            <a:ext cx="434340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Помощни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Ларина в девичестве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380880" y="4267080"/>
            <a:ext cx="373392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Татья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4343400" y="4191120"/>
            <a:ext cx="441972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Ольг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6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87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88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8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99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00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10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11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12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24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25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Тропинин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64832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Н.Н. Г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22860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Кипренский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464832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Репин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80880" y="990720"/>
            <a:ext cx="8305920" cy="1993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2122a"/>
                </a:solidFill>
                <a:latin typeface="Arial"/>
              </a:rPr>
              <a:t>8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Автор картины “Пущин у Пушкина в Михайловском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7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9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1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82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83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3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94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9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5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07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19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20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153640" cy="22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9.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т какого стихотворного размера не мог отличить Онегин ямба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хоре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4419720" y="5181480"/>
            <a:ext cx="44956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амфибрах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22860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анапе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4419720" y="4114800"/>
            <a:ext cx="441936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дактил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2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26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37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650"/>
                            </p:stCondLst>
                            <p:childTnLst>
                              <p:par>
                                <p:cTn id="7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51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9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70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71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778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1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82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83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93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94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95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07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08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1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304920" y="3200400"/>
            <a:ext cx="3809880" cy="9907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Ираид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04920" y="4800600"/>
            <a:ext cx="3886200" cy="9144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Ари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4419720" y="4800600"/>
            <a:ext cx="4343400" cy="9144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Анастаси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343400" y="3200400"/>
            <a:ext cx="4343400" cy="9907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Ири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80880" y="614880"/>
            <a:ext cx="8458200" cy="13129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54d35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  <a:ea typeface="Times New Roman"/>
              </a:rPr>
              <a:t>Как звали няню Пушкин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9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32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975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3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4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5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7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05560" cy="23623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Baskerville Old Face"/>
              </a:rPr>
              <a:t>10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ем меньше женщину мы любим,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ем … нравимся мы ей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Луч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4724280" y="5181480"/>
            <a:ext cx="403884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Мень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30492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Боль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8"/>
          <p:cNvSpPr/>
          <p:nvPr/>
        </p:nvSpPr>
        <p:spPr>
          <a:xfrm>
            <a:off x="4724280" y="4114800"/>
            <a:ext cx="403884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Легч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36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4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55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56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63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6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67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68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8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79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80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9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9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3352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11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романе “Евгений Онегин” читаем: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Надев широкий боливар,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Онегин едет на бульвар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кая часть одежды называлась “боливаром”?</a:t>
            </a: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28600" y="50292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Шарф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4572000" y="50292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Шляп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228600" y="3962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Пиджа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648320" y="3962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Паль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24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3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48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49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50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60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61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62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72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73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74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986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987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9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31244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a2122a"/>
                </a:solidFill>
                <a:latin typeface="Arial"/>
              </a:rPr>
              <a:t>12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з-за чего Пушкин пробыл в Болдине с начала сентября до конца ноября 1830 г.?</a:t>
            </a:r>
            <a:br>
              <a:rPr sz="4400"/>
            </a:b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>
            <a:off x="304920" y="5105520"/>
            <a:ext cx="396216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холер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4572000" y="5105520"/>
            <a:ext cx="411480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Из-за чум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>
            <a:off x="304920" y="4038480"/>
            <a:ext cx="396216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грипп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ангин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018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026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033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37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38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48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49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50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6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057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0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61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62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074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075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2667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Baskerville Old Face"/>
              </a:rPr>
              <a:t>13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Назовите стихотворение, в котором Бог повелевает своему посланнику “глаголом жечь сердца людей”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44" name="AutoShape 5"/>
          <p:cNvSpPr/>
          <p:nvPr/>
        </p:nvSpPr>
        <p:spPr>
          <a:xfrm>
            <a:off x="2286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«Памятни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45720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Анчар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22860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Узни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Проро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0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1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2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12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2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28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29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30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0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41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42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52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53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54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5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166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167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76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3352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14.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“Но, дверь тихонько отпирая,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Уж ей … седая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иносит на подносе чай.”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Назовите отчество няни Татьяны.</a:t>
            </a:r>
            <a:br>
              <a:rPr sz="4000"/>
            </a:br>
            <a:endParaRPr b="0" lang="en-US" sz="36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2286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Филип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45720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Прокоф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7"/>
          <p:cNvSpPr/>
          <p:nvPr/>
        </p:nvSpPr>
        <p:spPr>
          <a:xfrm>
            <a:off x="22860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Аркад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Михайло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9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20"/>
                            </p:stCondLst>
                            <p:childTnLst>
                              <p:par>
                                <p:cTn id="1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5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40"/>
                            </p:stCondLst>
                            <p:childTnLst>
                              <p:par>
                                <p:cTn id="1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2060"/>
                            </p:stCondLst>
                            <p:childTnLst>
                              <p:par>
                                <p:cTn id="1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8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9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2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218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22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28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29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30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237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40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41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42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249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52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53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54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5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66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67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4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5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6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47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8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9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50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1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52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3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54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5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56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7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push dir="l"/>
    <p:sndAc>
      <p:stSnd>
        <p:snd r:embed="rId1" name="millionair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90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3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27"/>
          <p:cNvSpPr/>
          <p:nvPr/>
        </p:nvSpPr>
        <p:spPr>
          <a:xfrm>
            <a:off x="228600" y="457200"/>
            <a:ext cx="8534520" cy="2070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Baskerville Old Face"/>
              </a:rPr>
              <a:t>15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Автор книги “Мой Пушкин”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2057400" y="3652920"/>
            <a:ext cx="411480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Мережковский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2057400" y="5634000"/>
            <a:ext cx="419112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Ахматов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2057400" y="2738520"/>
            <a:ext cx="3962520" cy="76176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Брю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2057400" y="4724280"/>
            <a:ext cx="419112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Цветаева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2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303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30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0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4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15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16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2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323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26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27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28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38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39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40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2107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0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357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25909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ebd40"/>
                </a:solidFill>
                <a:latin typeface="comic"/>
              </a:rPr>
              <a:t>Поздравляю,  вы </a:t>
            </a:r>
            <a:br>
              <a:rPr sz="5400"/>
            </a:br>
            <a:r>
              <a:rPr b="0" lang="ru-RU" sz="5400" spc="-1" strike="noStrike">
                <a:solidFill>
                  <a:srgbClr val="cebd40"/>
                </a:solidFill>
                <a:latin typeface="comic"/>
              </a:rPr>
              <a:t> </a:t>
            </a:r>
            <a:r>
              <a:rPr b="0" lang="ru-RU" sz="8800" spc="-1" strike="noStrike">
                <a:solidFill>
                  <a:srgbClr val="f1f622"/>
                </a:solidFill>
                <a:latin typeface="Monotype Corsiva"/>
              </a:rPr>
              <a:t>М</a:t>
            </a:r>
            <a:r>
              <a:rPr b="0" lang="ru-RU" sz="8800" spc="-1" strike="noStrike">
                <a:solidFill>
                  <a:srgbClr val="00ffff"/>
                </a:solidFill>
                <a:latin typeface="Monotype Corsiva"/>
              </a:rPr>
              <a:t>и</a:t>
            </a:r>
            <a:r>
              <a:rPr b="0" lang="ru-RU" sz="8800" spc="-1" strike="noStrike">
                <a:solidFill>
                  <a:srgbClr val="f6e2f2"/>
                </a:solidFill>
                <a:latin typeface="Monotype Corsiva"/>
              </a:rPr>
              <a:t>лл</a:t>
            </a:r>
            <a:r>
              <a:rPr b="0" lang="ru-RU" sz="8800" spc="-1" strike="noStrike">
                <a:solidFill>
                  <a:srgbClr val="2f9540"/>
                </a:solidFill>
                <a:latin typeface="Monotype Corsiva"/>
              </a:rPr>
              <a:t>и</a:t>
            </a:r>
            <a:r>
              <a:rPr b="0" lang="ru-RU" sz="8800" spc="-1" strike="noStrike">
                <a:solidFill>
                  <a:srgbClr val="f1f622"/>
                </a:solidFill>
                <a:latin typeface="Monotype Corsiva"/>
              </a:rPr>
              <a:t>о</a:t>
            </a:r>
            <a:r>
              <a:rPr b="0" lang="ru-RU" sz="8800" spc="-1" strike="noStrike">
                <a:solidFill>
                  <a:srgbClr val="0000ff"/>
                </a:solidFill>
                <a:latin typeface="Monotype Corsiva"/>
              </a:rPr>
              <a:t>н</a:t>
            </a:r>
            <a:r>
              <a:rPr b="0" lang="ru-RU" sz="8800" spc="-1" strike="noStrike">
                <a:solidFill>
                  <a:srgbClr val="00ffff"/>
                </a:solidFill>
                <a:latin typeface="Monotype Corsiva"/>
              </a:rPr>
              <a:t>ер</a:t>
            </a:r>
            <a:r>
              <a:rPr b="0" lang="ru-RU" sz="8800" spc="-1" strike="noStrike">
                <a:solidFill>
                  <a:srgbClr val="ffff99"/>
                </a:solidFill>
                <a:latin typeface="Monotype Corsiva"/>
              </a:rPr>
              <a:t>!</a:t>
            </a:r>
            <a:endParaRPr b="0" lang="en-US" sz="8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7997" y="3837"/>
                </a:moveTo>
                <a:lnTo>
                  <a:pt x="20573" y="6448"/>
                </a:ln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lnTo>
                  <a:pt x="24960" y="10800"/>
                </a:lnTo>
                <a:lnTo>
                  <a:pt x="23306" y="10800"/>
                </a:lnTo>
                <a:lnTo>
                  <a:pt x="23306" y="17989"/>
                </a:lnTo>
                <a:lnTo>
                  <a:pt x="12688" y="17989"/>
                </a:lnTo>
                <a:lnTo>
                  <a:pt x="12688" y="10800"/>
                </a:lnTo>
                <a:lnTo>
                  <a:pt x="11034" y="10800"/>
                </a:lnTo>
                <a:close/>
              </a:path>
              <a:path fill="darkenLess" w="35994" h="21600">
                <a:moveTo>
                  <a:pt x="20573" y="6448"/>
                </a:move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close/>
              </a:path>
              <a:path fill="darkenLess" w="35994" h="21600">
                <a:moveTo>
                  <a:pt x="17075" y="14299"/>
                </a:moveTo>
                <a:lnTo>
                  <a:pt x="18920" y="14299"/>
                </a:lnTo>
                <a:lnTo>
                  <a:pt x="18920" y="17989"/>
                </a:lnTo>
                <a:lnTo>
                  <a:pt x="23306" y="17989"/>
                </a:lnTo>
                <a:lnTo>
                  <a:pt x="23306" y="10800"/>
                </a:lnTo>
                <a:lnTo>
                  <a:pt x="12688" y="10800"/>
                </a:lnTo>
                <a:lnTo>
                  <a:pt x="12688" y="17989"/>
                </a:lnTo>
                <a:lnTo>
                  <a:pt x="17075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" descr="12284"/>
          <p:cNvPicPr/>
          <p:nvPr/>
        </p:nvPicPr>
        <p:blipFill>
          <a:blip r:embed="rId1"/>
          <a:stretch/>
        </p:blipFill>
        <p:spPr>
          <a:xfrm flipH="1">
            <a:off x="7086240" y="3808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12284"/>
          <p:cNvPicPr/>
          <p:nvPr/>
        </p:nvPicPr>
        <p:blipFill>
          <a:blip r:embed="rId2"/>
          <a:stretch/>
        </p:blipFill>
        <p:spPr>
          <a:xfrm>
            <a:off x="609480" y="380880"/>
            <a:ext cx="1397160" cy="1524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3690"/>
          <p:cNvPicPr/>
          <p:nvPr/>
        </p:nvPicPr>
        <p:blipFill>
          <a:blip r:embed="rId3"/>
          <a:stretch/>
        </p:blipFill>
        <p:spPr>
          <a:xfrm>
            <a:off x="6934320" y="5105520"/>
            <a:ext cx="1904760" cy="15523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3725"/>
          <p:cNvPicPr/>
          <p:nvPr/>
        </p:nvPicPr>
        <p:blipFill>
          <a:blip r:embed="rId4"/>
          <a:stretch/>
        </p:blipFill>
        <p:spPr>
          <a:xfrm>
            <a:off x="2514600" y="152280"/>
            <a:ext cx="4286160" cy="19051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3690"/>
          <p:cNvPicPr/>
          <p:nvPr/>
        </p:nvPicPr>
        <p:blipFill>
          <a:blip r:embed="rId5"/>
          <a:stretch/>
        </p:blipFill>
        <p:spPr>
          <a:xfrm flipH="1">
            <a:off x="456840" y="5105520"/>
            <a:ext cx="1600200" cy="15523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3719"/>
          <p:cNvPicPr/>
          <p:nvPr/>
        </p:nvPicPr>
        <p:blipFill>
          <a:blip r:embed="rId6"/>
          <a:stretch/>
        </p:blipFill>
        <p:spPr>
          <a:xfrm>
            <a:off x="2743200" y="5353200"/>
            <a:ext cx="3467160" cy="1276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0" descr="327"/>
          <p:cNvPicPr/>
          <p:nvPr/>
        </p:nvPicPr>
        <p:blipFill>
          <a:blip r:embed="rId7"/>
          <a:stretch/>
        </p:blipFill>
        <p:spPr>
          <a:xfrm>
            <a:off x="500040" y="4768920"/>
            <a:ext cx="8077320" cy="183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1" descr="327"/>
          <p:cNvPicPr/>
          <p:nvPr/>
        </p:nvPicPr>
        <p:blipFill>
          <a:blip r:embed="rId8"/>
          <a:stretch/>
        </p:blipFill>
        <p:spPr>
          <a:xfrm>
            <a:off x="533520" y="2209680"/>
            <a:ext cx="8076960" cy="1843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2" descr="400"/>
          <p:cNvPicPr/>
          <p:nvPr/>
        </p:nvPicPr>
        <p:blipFill>
          <a:blip r:embed="rId9"/>
          <a:stretch/>
        </p:blipFill>
        <p:spPr>
          <a:xfrm rot="16200000">
            <a:off x="-1024560" y="3328200"/>
            <a:ext cx="2905200" cy="363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3" descr="400"/>
          <p:cNvPicPr/>
          <p:nvPr/>
        </p:nvPicPr>
        <p:blipFill>
          <a:blip r:embed="rId10"/>
          <a:stretch/>
        </p:blipFill>
        <p:spPr>
          <a:xfrm flipH="1" rot="5400000">
            <a:off x="7242480" y="3348720"/>
            <a:ext cx="2905200" cy="322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0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4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5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69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70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71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458200" cy="252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2122a"/>
                </a:solidFill>
                <a:latin typeface="Baskerville Old Face"/>
              </a:rPr>
              <a:t>2.</a:t>
            </a:r>
            <a:r>
              <a:rPr b="0" lang="ru-RU" sz="4400" spc="-1" strike="noStrike">
                <a:solidFill>
                  <a:srgbClr val="cebd4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акими словами бранила старуха своего старика в “Сказке о рыбаке и рыбке”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228600" y="3809880"/>
            <a:ext cx="4267080" cy="12510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Горюшко ты моё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228600" y="5257800"/>
            <a:ext cx="426708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Пустая твоя голова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6"/>
          <p:cNvSpPr/>
          <p:nvPr/>
        </p:nvSpPr>
        <p:spPr>
          <a:xfrm>
            <a:off x="4648320" y="5257800"/>
            <a:ext cx="419076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Ах ты, мерзкий стари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4648320" y="3809880"/>
            <a:ext cx="426708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Дурачина ты, простофил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-22392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304920" y="461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3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40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4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83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994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4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3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колько лет Пушкин провёл в Царскосельском лицее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228600" y="5257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5 лет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4572000" y="5257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9 месяце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-22392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27"/>
          <p:cNvSpPr/>
          <p:nvPr/>
        </p:nvSpPr>
        <p:spPr>
          <a:xfrm>
            <a:off x="228600" y="42670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6 лет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28"/>
          <p:cNvSpPr/>
          <p:nvPr/>
        </p:nvSpPr>
        <p:spPr>
          <a:xfrm>
            <a:off x="4495680" y="4267080"/>
            <a:ext cx="403884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3 год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3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3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43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55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cc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68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21463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эт, подаривший Пушкину свой портрет с надписью “Победителю – ученику от побежденного учителя”</a:t>
            </a:r>
            <a:br>
              <a:rPr sz="4000"/>
            </a:b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1600200" y="3657600"/>
            <a:ext cx="541008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Фонвиз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1752480" y="5486400"/>
            <a:ext cx="518184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Жуков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1600200" y="2819520"/>
            <a:ext cx="5257800" cy="76176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Державин  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1676520" y="4572000"/>
            <a:ext cx="52578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Радищев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8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4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9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20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21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33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45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58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10-14T09:08:47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